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82AF-E748-4ABD-9E25-63B7355F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E2B1-F580-400D-9963-91CAF5FD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4C2-BCA0-45BF-A94E-CB902D8F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F01-463E-430B-8606-BA8C1956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2508-18A7-4B93-B970-7BC90FBC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989F-0EDC-4425-853A-8013EA5E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3F7C-1D3D-4D99-B5AC-69408137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23A7-7660-471F-AFE7-87098034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7300-871B-450D-B405-BF2279CA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975B-46A9-4272-AFF4-5CC68349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9506-1421-4A06-8BFC-78BDEBFE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70E-6C78-4C68-9B4A-F8420C49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708F-DD82-44BF-BF8E-F0F97FB9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0E78-FC83-4D4E-8C38-ED48BC59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9753-752E-4A44-9C4B-953A3BE7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CE53-C6D9-484B-81ED-A2024539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072D-149B-4111-9652-BD9E6A30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9061-918F-44B5-B600-AD07C143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F25-F7F5-4CA8-88E6-0D7D0F1D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F9B-2D07-4D2E-8193-B7558B4C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4BD7-FFB0-44C0-9918-90D68BA4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2A6-2B62-4C40-A789-911A5780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D4A9-6E11-4053-9C7A-45F2AFA7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63A1-2E3A-4FF5-B274-B67B7DC7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FAF2-9623-4250-9607-B6468C8DE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E3E3-B0A9-40C0-A489-1AECFAF19C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The Life of Christ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“Sir, We Would See Jesus”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10, Lesson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88-9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7:1 – 8: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Jesus Claims To Be The Light of The World – John 8:12-20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used the occasion of the feast, with it’s lighted cou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Jews were hoping for God to kindle for them the “Great Light” in the days of the Messia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affirms that people who know God should know the connection between Him and the F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Review of Main Segment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 of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ning Min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lilean Min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irement – to teach his dis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ING MIN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Our Main Points of The Close of Jesus’ Ministry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tude Divided – Common people &amp; Lea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sition Strong – among lea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easts in Jerusa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st of Tabernacles – About 6 months before Jesus’ death on the c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ions Jesus had with the Jews and their lea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Multitude Divided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Jewish Officials Hate Him and Plan His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s are very excited about the Messiah, believing Jesus to be the one prophes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Opposition Strong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harisees had several run-ins with Jesus and desired his death – Matt.12: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ws tried to kill Him at an earlier feast –John 5: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now opposition is more organized and more determ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6148440" cy="4695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438360" y="0"/>
            <a:ext cx="5705640" cy="370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91120" y="3809880"/>
            <a:ext cx="4952880" cy="2749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04920" y="762120"/>
            <a:ext cx="260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erusal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Feast of Tabernacle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st feast in the yearly cycle of feasts commanded in law of M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ebrated in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nth (Tishri) in connection with the Day of Aton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ll of the 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ebrating harv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Seven Days Following Day of Ato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Remember the Days When They Lived in Booths in the Wilder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sus arrives late and secretly until midway into the fe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Jesus Called For Truth-Seekers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se who want to know truth can know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se who are prejudiced can find fault with anybody – 7:7, 16,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, Jesus’ healing on a Sabbath was not legitimate cause for trying to kill Him -7:21-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who are thirsty for truth can come to Him for living water for the soul -7: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demus urged the Pharisees to give Jesus a fair hearing and then make judgment – 7:50-5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The Matter of the Adulteres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adulteress is brought to Jesus for judgment – John 8:2-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trying to trap Jesus to expose Him before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sus subtly and wisely dealt with the Jews’ hypocri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ealt with the woman’s sin by urging her repentance and forgiving 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02:09:22Z</dcterms:created>
  <dc:creator>Terry W. Benton</dc:creator>
  <dc:description/>
  <dc:language>en-US</dc:language>
  <cp:lastModifiedBy>Frank D Vines</cp:lastModifiedBy>
  <dcterms:modified xsi:type="dcterms:W3CDTF">2006-07-05T21:39:36Z</dcterms:modified>
  <cp:revision>5</cp:revision>
  <dc:subject/>
  <dc:title>The Life of Christ “Sir, We Would See Jesus”</dc:title>
</cp:coreProperties>
</file>